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image13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89B-FE09-4D75-84B0-A609A359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AD6-02AC-4A6F-9DE5-B1B86B9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356-002B-4CBC-9EF4-A54B41F1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316-FBAD-494A-BB50-8A8EB27F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2DA-AAE8-462E-AFD4-2856991F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1CD-284B-4D8F-A3C5-49F941BD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DF4-8A93-4E9B-8991-AE9E5C31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080-6741-45D6-8C30-288AF908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A54D-5EB9-4588-8CC3-E2BB847C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D106-630F-41EB-B259-E0C12390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3EE-3981-46A7-9C8D-3EE173D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09F-DBB3-4D46-B395-E2DD355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85DD-D006-423D-8BF4-A24ABE52E4A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INTERACTION IN THE 2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419360" cy="408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2120" y="5715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army reduced to 100,000 sold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20720" y="2050920"/>
            <a:ext cx="5997600" cy="2921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1295280" y="1599840"/>
            <a:ext cx="5486400" cy="3352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371600"/>
            <a:ext cx="6629400" cy="358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267080"/>
            <a:ext cx="350496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T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ir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bmarines (6 sh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ser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181840" cy="354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5638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 and Austria were forbidden to join. (Anschlu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2171520" cy="3303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4120" y="1295280"/>
            <a:ext cx="35049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4648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4648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5989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st all overseas col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bright="12000"/>
          </a:blip>
          <a:srcRect l="7133" t="2871" r="6281" b="0"/>
          <a:stretch/>
        </p:blipFill>
        <p:spPr>
          <a:xfrm>
            <a:off x="1447920" y="914400"/>
            <a:ext cx="647676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ice of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181480" cy="394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14400" y="5257800"/>
            <a:ext cx="78487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ar Basin (coal produc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 allowed to mine for 1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k all blame for WW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r Guilt Clau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rmany accepts the responsibility of Germany and her allies for causing all the loss and damage which the Allied…Governments and their nationals have been subjected to as a consequence of the war imposed upon them by the aggression of Germany and her alli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y was forced to pay reparation payments to the victorious nations. In the amou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90920" y="3048120"/>
            <a:ext cx="3981240" cy="13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$33,000,000,000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4572000"/>
            <a:ext cx="35812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438440" cy="554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lemenceau, the Va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51814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: “Make Germany Pa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5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56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I: TOTAL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534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TAL FORCES MOBIL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00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AND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904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1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,355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429000"/>
            <a:ext cx="85341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R DE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,700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AND EMPI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907,4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,375,8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733,7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126,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538,3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219,452 SOLDIERS WERE W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750,919 WERE COUNTED MISSING OR POW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GRAND TOTAL OF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52480" y="1828800"/>
            <a:ext cx="5410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37,508,686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dead or wounde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876920"/>
            <a:ext cx="8515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1% OF THE SOLDIERS WHO FOUGH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19520" y="5867280"/>
            <a:ext cx="36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5,000 PER DAY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Costs of Wa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OR ALL ALLIED 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25,690,47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FOR CENTRAL POW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$60,643,16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6,333,63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TOTAL EQUALS APPROXIMATELY…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62320" y="3809880"/>
            <a:ext cx="4647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$125,000,000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624852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AY OF THE W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71492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Y OF VERSAILL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aris Peace Conference Jan. – June, 19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2057400"/>
            <a:ext cx="3581280" cy="33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jor P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nations attended (All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tated pea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“The Big Fou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Lloyd George (Brit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s Clemenceau (Fr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row Wilson (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ttorio Orlando (Ita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ice of Defeat (Claus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638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hineland was to be demilitar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378320" cy="43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1:43:19Z</dcterms:created>
  <dc:creator>Ceara Ormond</dc:creator>
  <dc:description/>
  <dc:language>en-US</dc:language>
  <cp:lastModifiedBy>ripkensa</cp:lastModifiedBy>
  <dcterms:modified xsi:type="dcterms:W3CDTF">2009-03-03T19:12:41Z</dcterms:modified>
  <cp:revision>6</cp:revision>
  <dc:subject/>
  <dc:title>GLOBAL INTERACTION IN THE 20th CENTURY</dc:title>
</cp:coreProperties>
</file>